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F4F-07AE-4387-976F-B92DF4DD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45C-D35F-4ADD-843E-BA144DC3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A5F-B5E3-4366-9F57-DEEAF55B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E34-F74F-46D3-9CA0-FD25EA00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7AD-0FFC-403C-B35E-55E40357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270-8814-4E37-9F4A-18739C34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013-CB86-42EE-92D3-59B996C1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089-4076-4874-B93B-1DA9B3E7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3E2-F124-4062-A8BE-E8196600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69E1-F796-4B16-BD66-312EE476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AB0-ECA4-4A3E-92DF-AD31900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79D-C626-4FA8-A5FB-2FFB129C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5B3D-5BFF-436D-96F8-7CA823E999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31532;2&#31456;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Visual C++6.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例教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第2章   文档和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对话框与控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菜单、快捷键和控制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图形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文件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用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异常处理和诊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章   多线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13:24:32Z</dcterms:created>
  <dc:creator>YangGuoxing</dc:creator>
  <dc:description/>
  <dc:language>en-US</dc:language>
  <cp:lastModifiedBy>YangGuoxing</cp:lastModifiedBy>
  <dcterms:modified xsi:type="dcterms:W3CDTF">2001-07-11T15:25:04Z</dcterms:modified>
  <cp:revision>2</cp:revision>
  <dc:subject/>
  <dc:title>Visual C++6.0实例教程</dc:title>
</cp:coreProperties>
</file>